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A46-E7BD-45FA-A036-07DA769F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C4C-E0E7-4833-B8EB-F2A4A57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84C-99DC-4E57-AAB7-310C382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252-6FEA-4039-BCBC-8F94107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C90-1F22-4ED3-B06D-C6BA6840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932-B4A1-4926-9BB5-64F248D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84-E05B-478B-8C4B-555EAE4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908-8470-458D-956D-DF6F3A5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D30-E9BB-48A1-B0AA-F77A531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F5A-C988-4AEF-8235-B0B2408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B99-3974-45A7-BC2C-E0A13EF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7FF-6642-4BDF-883F-8D1363B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B646-92EC-44C5-9118-65485F0E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1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son las hermanas Mirab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ar la pelícu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n the Time of the Butter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activas de la pelic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Tarea # 3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10-12 sentence reflection on the scenes we saw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5:09:34Z</dcterms:created>
  <dc:creator>Helen Zumaeta</dc:creator>
  <dc:description/>
  <dc:language>en-US</dc:language>
  <cp:lastModifiedBy>Helen Zumaeta</cp:lastModifiedBy>
  <dcterms:modified xsi:type="dcterms:W3CDTF">2013-01-31T20:14:27Z</dcterms:modified>
  <cp:revision>5</cp:revision>
  <dc:subject/>
  <dc:title>Me llamo _________ Clase 8IM La fecha es el 24 de enero del 2012</dc:title>
</cp:coreProperties>
</file>